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74B-60E5-498E-AE0C-F4715957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A67-7F83-4323-8665-6D4BB594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B6B-30F6-432A-94B9-47397157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4B4-20D5-4694-A2B3-E5521655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DE2-F4EC-42D7-8BA0-5B22EFC8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728-0FD6-47FB-AAAE-0CF4ED4A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FF4-51ED-433C-ADBE-3D69D2C4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C6FB-2660-419D-AECC-63CA7A5C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C43-F05C-4BCB-A3D1-93CC3A2B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351-2607-46C4-83D4-0D8C14FE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F44-A36D-4FE1-BDCA-3E4725C1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7EB-95DF-4747-B20B-40DDD44E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76760"/>
            <a:ext cx="21337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8C1A-6116-4FAB-B0D1-B2199FC18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304920"/>
            <a:ext cx="2514600" cy="12189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wo colum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dBm and the other for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2C9-98CE-45B5-8B74-357B2AF1F3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55600" y="60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65960" y="60948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971800"/>
            <a:ext cx="3352680" cy="762120"/>
          </a:xfrm>
          <a:prstGeom prst="wedgeRoundRectCallout">
            <a:avLst>
              <a:gd name="adj1" fmla="val -18467"/>
              <a:gd name="adj2" fmla="val -283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ust add or subtract a 3 in the dBm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2971800"/>
            <a:ext cx="3200400" cy="990720"/>
          </a:xfrm>
          <a:prstGeom prst="wedgeRoundRectCallout">
            <a:avLst>
              <a:gd name="adj1" fmla="val 13046"/>
              <a:gd name="adj2" fmla="val -2314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ely, if you multiply or divide the mW column by 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098-5E2C-414F-9DB1-793C4104BD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55600" y="60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65960" y="114300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14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65960" y="60948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429000"/>
            <a:ext cx="3124080" cy="762120"/>
          </a:xfrm>
          <a:prstGeom prst="wedgeRoundRectCallout">
            <a:avLst>
              <a:gd name="adj1" fmla="val -16157"/>
              <a:gd name="adj2" fmla="val -283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dd or subtract a 10 in the dBm colum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429000"/>
            <a:ext cx="3429000" cy="762120"/>
          </a:xfrm>
          <a:prstGeom prst="wedgeRoundRectCallout">
            <a:avLst>
              <a:gd name="adj1" fmla="val 15509"/>
              <a:gd name="adj2" fmla="val -2858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ust multiply or divide the mW column by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8BD-AE03-4DFA-B22B-A12BD44C81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55600" y="60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65960" y="114300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14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65960" y="60948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3429000"/>
            <a:ext cx="3276360" cy="762120"/>
          </a:xfrm>
          <a:prstGeom prst="wedgeRoundRectCallout">
            <a:avLst>
              <a:gd name="adj1" fmla="val -17731"/>
              <a:gd name="adj2" fmla="val -283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ust add or subtract a 10 in the dBm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3429000"/>
            <a:ext cx="3200400" cy="990720"/>
          </a:xfrm>
          <a:prstGeom prst="wedgeRoundRectCallout">
            <a:avLst>
              <a:gd name="adj1" fmla="val 13046"/>
              <a:gd name="adj2" fmla="val -2314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ely, if you multiply or divide the mW column by 1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467-B1A6-410E-9177-0369418158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55600" y="60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65960" y="114300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2920" y="114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5960" y="60948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3733920"/>
            <a:ext cx="5029200" cy="1676160"/>
          </a:xfrm>
          <a:prstGeom prst="wedgeRoundRectCallout">
            <a:avLst>
              <a:gd name="adj1" fmla="val 157"/>
              <a:gd name="adj2" fmla="val -119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at you have seen the rules, it is important to remember that dBm is a unit of power. dBm means decibels related to milliwatts. You create this relationship by equating 0 decibels to 1 milliwa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B0D-C099-472E-84DA-A6494E089E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55600" y="60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65960" y="114300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114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65960" y="60948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267080"/>
            <a:ext cx="5029200" cy="990720"/>
          </a:xfrm>
          <a:prstGeom prst="wedgeRoundRectCallout">
            <a:avLst>
              <a:gd name="adj1" fmla="val 157"/>
              <a:gd name="adj2" fmla="val -168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aking the CWNA test, this is a great template to use for any of the RF math calculation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76320"/>
            <a:ext cx="868680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569-C6CD-46B3-A530-2F2CBE327A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286000"/>
            <a:ext cx="2895480" cy="1828800"/>
          </a:xfrm>
          <a:prstGeom prst="wedgeRoundRectCallout">
            <a:avLst>
              <a:gd name="adj1" fmla="val 16995"/>
              <a:gd name="adj2" fmla="val -908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+ and – near the dBm column. These are the only mathematical commands that you will perform on the dBm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31E-7466-4859-8FBD-F27735F79A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286000"/>
            <a:ext cx="2895480" cy="1828800"/>
          </a:xfrm>
          <a:prstGeom prst="wedgeRoundRectCallout">
            <a:avLst>
              <a:gd name="adj1" fmla="val -18583"/>
              <a:gd name="adj2" fmla="val -876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* and ÷ near the mW column. These are the only mathematical commands that you will perform on the mW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6D3-2C1B-4972-B7C8-1C92BD382D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971800"/>
            <a:ext cx="3124080" cy="762120"/>
          </a:xfrm>
          <a:prstGeom prst="wedgeRoundRectCallout">
            <a:avLst>
              <a:gd name="adj1" fmla="val -3504"/>
              <a:gd name="adj2" fmla="val -319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dition performed in the dBm colum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971800"/>
            <a:ext cx="3200400" cy="762120"/>
          </a:xfrm>
          <a:prstGeom prst="wedgeRoundRectCallout">
            <a:avLst>
              <a:gd name="adj1" fmla="val 199"/>
              <a:gd name="adj2" fmla="val -319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a multiplication in the mW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78F-D966-442E-9B4F-04EB35BD7D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3505320"/>
            <a:ext cx="3124080" cy="761760"/>
          </a:xfrm>
          <a:prstGeom prst="wedgeRoundRectCallout">
            <a:avLst>
              <a:gd name="adj1" fmla="val -1018"/>
              <a:gd name="adj2" fmla="val -319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subtraction performed in the dBm colum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3505320"/>
            <a:ext cx="3200400" cy="761760"/>
          </a:xfrm>
          <a:prstGeom prst="wedgeRoundRectCallout">
            <a:avLst>
              <a:gd name="adj1" fmla="val 1587"/>
              <a:gd name="adj2" fmla="val -319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a division in the mW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C19-FF5A-49AD-B00F-774C3AB7B2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971800"/>
            <a:ext cx="3124080" cy="762120"/>
          </a:xfrm>
          <a:prstGeom prst="wedgeRoundRectCallout">
            <a:avLst>
              <a:gd name="adj1" fmla="val -1018"/>
              <a:gd name="adj2" fmla="val -319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an addition in the dBm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971800"/>
            <a:ext cx="3200400" cy="990720"/>
          </a:xfrm>
          <a:prstGeom prst="wedgeRoundRectCallout">
            <a:avLst>
              <a:gd name="adj1" fmla="val 1587"/>
              <a:gd name="adj2" fmla="val -2575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ely, any multiplication performed in the mW colum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454-D22F-4C49-8E6D-D0722A8A07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505320"/>
            <a:ext cx="3124080" cy="761760"/>
          </a:xfrm>
          <a:prstGeom prst="wedgeRoundRectCallout">
            <a:avLst>
              <a:gd name="adj1" fmla="val -1018"/>
              <a:gd name="adj2" fmla="val -319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a subtraction in the dBm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505320"/>
            <a:ext cx="3200400" cy="761760"/>
          </a:xfrm>
          <a:prstGeom prst="wedgeRoundRectCallout">
            <a:avLst>
              <a:gd name="adj1" fmla="val 1587"/>
              <a:gd name="adj2" fmla="val -319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y division performed in the mW colum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1B5-28FE-490C-A926-0FA2CDE613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7400" y="1752480"/>
            <a:ext cx="5334120" cy="2133720"/>
          </a:xfrm>
          <a:prstGeom prst="wedgeRoundRectCallout">
            <a:avLst>
              <a:gd name="adj1" fmla="val -43305"/>
              <a:gd name="adj2" fmla="val 1121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you’ll include the numbers that go along with this ru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46E-6F73-4D79-8DDC-EE55C75997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H="1">
            <a:off x="2743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029200" y="21337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9560" y="5335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00240" y="100800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69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56400" y="1050840"/>
            <a:ext cx="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55600" y="60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65960" y="60948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971800"/>
            <a:ext cx="3124080" cy="762120"/>
          </a:xfrm>
          <a:prstGeom prst="wedgeRoundRectCallout">
            <a:avLst>
              <a:gd name="adj1" fmla="val -16157"/>
              <a:gd name="adj2" fmla="val -283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dd or subtract a 3 in the dBm colum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2971800"/>
            <a:ext cx="3352680" cy="762120"/>
          </a:xfrm>
          <a:prstGeom prst="wedgeRoundRectCallout">
            <a:avLst>
              <a:gd name="adj1" fmla="val 14726"/>
              <a:gd name="adj2" fmla="val -2858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ust multiply or divide the mW column by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7D2-9A92-4376-B06A-50F60CA566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2:27:27Z</dcterms:created>
  <dc:creator>DW</dc:creator>
  <dc:description/>
  <dc:language>en-US</dc:language>
  <cp:lastModifiedBy>David Westcott</cp:lastModifiedBy>
  <dcterms:modified xsi:type="dcterms:W3CDTF">2006-03-28T18:52:26Z</dcterms:modified>
  <cp:revision>9</cp:revision>
  <dc:subject/>
  <dc:title>Slide 1</dc:title>
</cp:coreProperties>
</file>