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A77-EA29-42BB-B03B-BE2A5E0C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A7B-14A5-4D2B-A584-EC5A37A6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A5C-0E9B-40D4-AEF3-D3D6E8BB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FDC-087C-4A71-944C-30D7146E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B38-3744-40EE-AB26-7A4AAD32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A79-72CC-4365-811E-102ED82B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131-3651-41E5-9BEB-839C6A3B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B59-2F65-416B-8EE8-FF3B1F46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6C1-A018-49CA-9C52-49B30626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7EE-C37B-4BF9-8103-2E130432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8AE-4163-446B-AE89-87F33348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F2A-BBDD-4366-B32D-738626A3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476760"/>
            <a:ext cx="213372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B743-E372-4662-B26B-4CBA6311F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7010280" y="6477120"/>
            <a:ext cx="2133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BFAC-F5A3-4E49-ACD9-12212402F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1676520" y="1752480"/>
            <a:ext cx="5790960" cy="2819520"/>
          </a:xfrm>
          <a:prstGeom prst="wedgeRoundRectCallout">
            <a:avLst>
              <a:gd name="adj1" fmla="val -37254"/>
              <a:gd name="adj2" fmla="val 10242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review question 9, you need to calculate how many mW is equal to 23 dB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7010280" y="6477120"/>
            <a:ext cx="2133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E26B-A498-4213-BBDA-CD2DF749B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059560" y="5335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100240" y="100800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705720" y="66996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656400" y="105084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155600" y="609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7365960" y="114300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042920" y="114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7365960" y="60948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743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5029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0"/>
          <p:cNvSpPr/>
          <p:nvPr/>
        </p:nvSpPr>
        <p:spPr>
          <a:xfrm>
            <a:off x="2438280" y="3886200"/>
            <a:ext cx="4496040" cy="457200"/>
          </a:xfrm>
          <a:prstGeom prst="wedgeRoundRectCallout">
            <a:avLst>
              <a:gd name="adj1" fmla="val 634"/>
              <a:gd name="adj2" fmla="val -2434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off with the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0"/>
          <p:cNvSpPr/>
          <p:nvPr/>
        </p:nvSpPr>
        <p:spPr>
          <a:xfrm>
            <a:off x="304920" y="594360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question 9: Calculate how many mW is equal to 23 dB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10280" y="6477120"/>
            <a:ext cx="2133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C241-A622-4F6A-AC2F-80642B3B3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059560" y="5335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00240" y="100800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705720" y="66996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656400" y="105084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155600" y="609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7365960" y="114300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042920" y="114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7365960" y="60948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743200" y="2133720"/>
            <a:ext cx="1371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029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213372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8"/>
          <p:cNvSpPr/>
          <p:nvPr/>
        </p:nvSpPr>
        <p:spPr>
          <a:xfrm flipH="1">
            <a:off x="2286000" y="2438280"/>
            <a:ext cx="9144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2362320" y="28954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"/>
          <p:cNvSpPr/>
          <p:nvPr/>
        </p:nvSpPr>
        <p:spPr>
          <a:xfrm>
            <a:off x="4648320" y="4191120"/>
            <a:ext cx="3581280" cy="1523880"/>
          </a:xfrm>
          <a:prstGeom prst="wedgeRoundRectCallout">
            <a:avLst>
              <a:gd name="adj1" fmla="val -72828"/>
              <a:gd name="adj2" fmla="val -576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step is to determine how to add 3 and/or 10 to the dBm column so that it adds up to 23. The simplest way is to add 10 twice and 3 o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1295280" y="2133720"/>
            <a:ext cx="1371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2"/>
          <p:cNvSpPr/>
          <p:nvPr/>
        </p:nvSpPr>
        <p:spPr>
          <a:xfrm flipH="1">
            <a:off x="2286000" y="3048120"/>
            <a:ext cx="91440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2362320" y="35053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 flipH="1">
            <a:off x="2286000" y="3581280"/>
            <a:ext cx="9144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2362320" y="40384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28"/>
          <p:cNvSpPr/>
          <p:nvPr/>
        </p:nvSpPr>
        <p:spPr>
          <a:xfrm>
            <a:off x="304920" y="594360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question 9: Calculate how many mW is equal to 23 dB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7010280" y="6477120"/>
            <a:ext cx="2133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B448-53EB-4985-BD7A-053844166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059560" y="5335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100240" y="100800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705720" y="66996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656400" y="105084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155600" y="609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7365960" y="114300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042920" y="114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7365960" y="60948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743200" y="2133720"/>
            <a:ext cx="1371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5029200" y="2133720"/>
            <a:ext cx="1371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304920" y="5029200"/>
            <a:ext cx="2666880" cy="762120"/>
          </a:xfrm>
          <a:prstGeom prst="wedgeRoundRectCallout">
            <a:avLst>
              <a:gd name="adj1" fmla="val -1726"/>
              <a:gd name="adj2" fmla="val -16041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ever is done to the dBm colum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6400800" y="2133720"/>
            <a:ext cx="1371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601992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0"/>
          <p:cNvSpPr/>
          <p:nvPr/>
        </p:nvSpPr>
        <p:spPr>
          <a:xfrm flipH="1">
            <a:off x="6095880" y="2895480"/>
            <a:ext cx="6098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1"/>
          <p:cNvSpPr/>
          <p:nvPr/>
        </p:nvSpPr>
        <p:spPr>
          <a:xfrm>
            <a:off x="3809880" y="4800600"/>
            <a:ext cx="4648320" cy="990720"/>
          </a:xfrm>
          <a:prstGeom prst="wedgeRoundRectCallout">
            <a:avLst>
              <a:gd name="adj1" fmla="val 21175"/>
              <a:gd name="adj2" fmla="val -1100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have a correlative calculation in the mW column. So + 10 + 10 + 3 requ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10 * 10 * 2 to the mW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1295280" y="2133720"/>
            <a:ext cx="1371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6095880" y="2971800"/>
            <a:ext cx="60984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4"/>
          <p:cNvSpPr/>
          <p:nvPr/>
        </p:nvSpPr>
        <p:spPr>
          <a:xfrm flipH="1">
            <a:off x="6095880" y="3429000"/>
            <a:ext cx="6098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5"/>
          <p:cNvSpPr/>
          <p:nvPr/>
        </p:nvSpPr>
        <p:spPr>
          <a:xfrm>
            <a:off x="6095880" y="3505320"/>
            <a:ext cx="60984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6"/>
          <p:cNvSpPr/>
          <p:nvPr/>
        </p:nvSpPr>
        <p:spPr>
          <a:xfrm flipH="1">
            <a:off x="6095880" y="3962520"/>
            <a:ext cx="6098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29"/>
          <p:cNvSpPr/>
          <p:nvPr/>
        </p:nvSpPr>
        <p:spPr>
          <a:xfrm>
            <a:off x="304920" y="594360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question 9: Calculate how many mW is equal to 23 dB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10280" y="6477120"/>
            <a:ext cx="2133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779A-4221-4A56-9C52-1B75791FB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059560" y="5335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100240" y="100800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705720" y="66996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6656400" y="105084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155600" y="609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7365960" y="114300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042920" y="114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7365960" y="60948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2743200" y="2133720"/>
            <a:ext cx="1371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029200" y="2133720"/>
            <a:ext cx="1371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7"/>
          <p:cNvSpPr/>
          <p:nvPr/>
        </p:nvSpPr>
        <p:spPr>
          <a:xfrm>
            <a:off x="5715000" y="5105520"/>
            <a:ext cx="2666880" cy="761760"/>
          </a:xfrm>
          <a:prstGeom prst="wedgeRoundRectCallout">
            <a:avLst>
              <a:gd name="adj1" fmla="val -45537"/>
              <a:gd name="adj2" fmla="val -1631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23 dBm is equal to 200 m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6400800" y="2133720"/>
            <a:ext cx="1371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295280" y="2133720"/>
            <a:ext cx="1371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ounded Rectangle 22"/>
          <p:cNvSpPr/>
          <p:nvPr/>
        </p:nvSpPr>
        <p:spPr>
          <a:xfrm>
            <a:off x="304920" y="594360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question 9: Calculate how many mW is equal to 23 dB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2:27:27Z</dcterms:created>
  <dc:creator>DW</dc:creator>
  <dc:description/>
  <dc:language>en-US</dc:language>
  <cp:lastModifiedBy> </cp:lastModifiedBy>
  <dcterms:modified xsi:type="dcterms:W3CDTF">2009-02-19T08:31:06Z</dcterms:modified>
  <cp:revision>13</cp:revision>
  <dc:subject/>
  <dc:title>Slide 1</dc:title>
</cp:coreProperties>
</file>